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19D25-17CD-41C3-8390-FDC8A77CF6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79640" y="3598560"/>
            <a:ext cx="6372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79640" y="4374720"/>
            <a:ext cx="6372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F38AE-398B-4797-AD90-DF4C02BAC5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79640" y="359856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44840" y="359856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79640" y="437472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344840" y="437472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42928-667E-45C3-B396-7551F83CC4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79640" y="3598560"/>
            <a:ext cx="205164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4240" y="3598560"/>
            <a:ext cx="205164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88840" y="3598560"/>
            <a:ext cx="205164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79640" y="4374720"/>
            <a:ext cx="205164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4240" y="4374720"/>
            <a:ext cx="205164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88840" y="4374720"/>
            <a:ext cx="205164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BA314-5B51-47E3-970E-9C81D8A27C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BCF2-30EB-405E-9070-E2054D05DE0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79640" y="3598560"/>
            <a:ext cx="637200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C83D-E9D6-42AD-92F1-B788CBA7637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79640" y="3598560"/>
            <a:ext cx="637200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6D31-F3F8-4C0B-B721-322F5E84FEB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79640" y="3598560"/>
            <a:ext cx="31093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44840" y="3598560"/>
            <a:ext cx="31093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3019-E3D9-4B24-BCF5-D98F31683E2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358C-8E9B-4C93-A846-7F88C3E0BB5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92360" y="2421000"/>
            <a:ext cx="63770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CE6D-D461-4769-84CF-A5C6915BF76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79640" y="359856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44840" y="3598560"/>
            <a:ext cx="31093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79640" y="437472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D40B-C493-4D2B-B1D3-B7D3B6F6F0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79640" y="3598560"/>
            <a:ext cx="637200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4925C-4CDC-4FB9-8D46-A2B19B21E9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79640" y="3598560"/>
            <a:ext cx="31093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44840" y="359856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44840" y="437472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B9F3-93D4-4CE6-BED1-0BD7F3AD3CC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79640" y="359856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44840" y="359856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79640" y="4374720"/>
            <a:ext cx="6372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028B-BFBF-4635-91D9-12303ABAC7A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79640" y="3598560"/>
            <a:ext cx="6372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79640" y="4374720"/>
            <a:ext cx="6372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8EB8-64FE-4DF7-96CA-6D0C93AB907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79640" y="359856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44840" y="359856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79640" y="437472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44840" y="437472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0413-9FAF-4BC0-8410-303C56DC723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79640" y="3598560"/>
            <a:ext cx="205164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4240" y="3598560"/>
            <a:ext cx="205164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388840" y="3598560"/>
            <a:ext cx="205164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79640" y="4374720"/>
            <a:ext cx="205164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4240" y="4374720"/>
            <a:ext cx="205164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388840" y="4374720"/>
            <a:ext cx="205164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18BA-000B-469A-8375-22BD6F4348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79640" y="3598560"/>
            <a:ext cx="637200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529FC-CC50-48A0-93E3-E29853BEC3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79640" y="3598560"/>
            <a:ext cx="31093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344840" y="3598560"/>
            <a:ext cx="31093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4E18E-2B2C-4432-82BC-E0B1D26A4D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A5D9D-3559-4A82-A12B-2D2788DE60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92360" y="2421000"/>
            <a:ext cx="63770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9993C-4DA4-4FDD-9CF1-6E70231E98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79640" y="359856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44840" y="3598560"/>
            <a:ext cx="31093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79640" y="437472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0FB89-16D7-4DF2-9937-FFDADE8AC2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79640" y="3598560"/>
            <a:ext cx="31093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344840" y="359856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344840" y="437472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8616A-0695-400C-B754-1D92A3C984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79640" y="359856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44840" y="359856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79640" y="4374720"/>
            <a:ext cx="6372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A2689-AD9C-4381-92EE-3006B5D7DC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79280" y="1988640"/>
            <a:ext cx="784836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lnSpc>
                <a:spcPct val="140000"/>
              </a:lnSpc>
              <a:buClr>
                <a:srgbClr val="4a4a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a4a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  <a:p>
            <a:pPr lvl="1" marL="533520" indent="-168480">
              <a:lnSpc>
                <a:spcPct val="140000"/>
              </a:lnSpc>
              <a:buClr>
                <a:srgbClr val="4a4a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a4a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  <a:p>
            <a:pPr lvl="2" marL="898560" indent="-185760">
              <a:lnSpc>
                <a:spcPct val="140000"/>
              </a:lnSpc>
              <a:buClr>
                <a:srgbClr val="4a4a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a4a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  <a:p>
            <a:pPr lvl="3" marL="1338120" indent="-260280">
              <a:lnSpc>
                <a:spcPct val="140000"/>
              </a:lnSpc>
              <a:buClr>
                <a:srgbClr val="4a4a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a4a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  <a:p>
            <a:pPr lvl="4" marL="2068560" indent="-228600">
              <a:lnSpc>
                <a:spcPct val="140000"/>
              </a:lnSpc>
              <a:buClr>
                <a:srgbClr val="4a4a4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a4a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  <a:p>
            <a:pPr lvl="5" marL="2068560" indent="-228600">
              <a:lnSpc>
                <a:spcPct val="140000"/>
              </a:lnSpc>
              <a:buClr>
                <a:srgbClr val="4a4a4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a4a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  <a:p>
            <a:pPr lvl="6" marL="2068560" indent="-228600">
              <a:lnSpc>
                <a:spcPct val="140000"/>
              </a:lnSpc>
              <a:buClr>
                <a:srgbClr val="4a4a4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a4a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1079640" y="6297480"/>
            <a:ext cx="7200720" cy="3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4a4a4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a4a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604360" y="6297480"/>
            <a:ext cx="288720" cy="3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4a4a4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28D52-3197-48E0-AD0C-47384CD0E8A9}" type="slidenum">
              <a:rPr b="0" lang="en-US" sz="1100" spc="-1" strike="noStrike">
                <a:solidFill>
                  <a:srgbClr val="4a4a4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179280" cy="6859440"/>
          </a:xfrm>
          <a:prstGeom prst="rect">
            <a:avLst/>
          </a:prstGeom>
          <a:solidFill>
            <a:srgbClr val="5ba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079280" y="1196640"/>
            <a:ext cx="78483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244000" y="6297480"/>
            <a:ext cx="431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a4a"/>
                </a:solidFill>
                <a:latin typeface="Arial"/>
              </a:rPr>
              <a:t>Seite</a:t>
            </a:r>
            <a:endParaRPr b="0" lang="en-US" sz="1100" spc="-1" strike="noStrike">
              <a:solidFill>
                <a:srgbClr val="4a4a4a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964640" y="358920"/>
            <a:ext cx="928440" cy="2174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079640" y="358920"/>
            <a:ext cx="1944720" cy="35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ldNum" idx="3"/>
          </p:nvPr>
        </p:nvSpPr>
        <p:spPr>
          <a:xfrm>
            <a:off x="7701120" y="6297480"/>
            <a:ext cx="1064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4a4a4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a4a"/>
                </a:solidFill>
                <a:latin typeface="Times New Roman"/>
              </a:rPr>
              <a:t>Seite </a:t>
            </a:r>
            <a:fld id="{FA8C85A4-0255-42B5-A697-5BA399D32560}" type="slidenum">
              <a:rPr b="0" lang="en-US" sz="1100" spc="-1" strike="noStrike">
                <a:solidFill>
                  <a:srgbClr val="4a4a4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179280" cy="6859440"/>
          </a:xfrm>
          <a:prstGeom prst="rect">
            <a:avLst/>
          </a:prstGeom>
          <a:solidFill>
            <a:srgbClr val="be3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164360" y="620640"/>
            <a:ext cx="1536840" cy="360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Informationssystem Medienpädagogik"/>
          <p:cNvPicPr/>
          <p:nvPr/>
        </p:nvPicPr>
        <p:blipFill>
          <a:blip r:embed="rId3"/>
          <a:srcRect l="0" t="0" r="32248" b="-567"/>
          <a:stretch/>
        </p:blipFill>
        <p:spPr>
          <a:xfrm>
            <a:off x="468360" y="549360"/>
            <a:ext cx="4390920" cy="503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4a4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  <a:p>
            <a:pPr lvl="1" marL="263520" indent="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a4a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  <a:p>
            <a:pPr lvl="2" marL="622440" indent="171360" algn="ctr">
              <a:lnSpc>
                <a:spcPct val="140000"/>
              </a:lnSpc>
              <a:buClr>
                <a:srgbClr val="4a4a4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a4a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  <a:p>
            <a:pPr lvl="3" marL="973080" indent="181080" algn="ctr">
              <a:lnSpc>
                <a:spcPct val="140000"/>
              </a:lnSpc>
              <a:buClr>
                <a:srgbClr val="4a4a4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a4a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  <a:p>
            <a:pPr lvl="4" marL="1828800" indent="11160" algn="ctr">
              <a:spcBef>
                <a:spcPts val="499"/>
              </a:spcBef>
              <a:buClr>
                <a:srgbClr val="4a4a4a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4a4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 lvl="5" marL="1828800" indent="11160">
              <a:spcBef>
                <a:spcPts val="499"/>
              </a:spcBef>
              <a:buClr>
                <a:srgbClr val="4a4a4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4a4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 lvl="6" marL="1828800" indent="11160">
              <a:spcBef>
                <a:spcPts val="499"/>
              </a:spcBef>
              <a:buClr>
                <a:srgbClr val="4a4a4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4a4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ism-info.de/start.html" TargetMode="External"/><Relationship Id="rId3" Type="http://schemas.openxmlformats.org/officeDocument/2006/relationships/hyperlink" Target="http://www.ism-info.de/" TargetMode="External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000" y="2205000"/>
            <a:ext cx="835164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herche im Informationssystem Medienpädagogi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15640" y="3860640"/>
            <a:ext cx="637236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4a4a"/>
                </a:solidFill>
                <a:latin typeface="Arial"/>
              </a:rPr>
              <a:t>Ein einführendes Tutorial</a:t>
            </a: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7988400" cy="47498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700360" y="2781360"/>
            <a:ext cx="1008000" cy="12952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00720" y="2133720"/>
            <a:ext cx="2702160" cy="46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Freitext, 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sucht in allen vorhandenen Felder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Schlagworte, 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sucht in Schlagworten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Personen,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sucht nach Personen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Titel, 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sucht nach Titeln 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Jahr, 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sucht nach Jahreszahlen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Institutionen, 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sucht nach Institutionen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ISBN, 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sucht nach ISBN – Nummern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Sendungen, 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sucht nach Rundfunk- und Fernsehsendungen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708000" y="2637000"/>
            <a:ext cx="2592360" cy="5047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71640" y="112536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he in der Mediendatenbank</a:t>
            </a: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755640" y="1989000"/>
            <a:ext cx="8077320" cy="41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che in der Projektdatenbank</a:t>
            </a: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zielte Recherche laufenden Projekten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zielte Recherche nach Projekten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mbinierte Suche nach mehreren Projekten 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knüpfung von mehreren Suchoptionen 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7956360" cy="47372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68360" y="3933720"/>
            <a:ext cx="1008360" cy="43200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356000" y="4076640"/>
            <a:ext cx="3097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Erlaubt die Such auf laufende oder abgeschlossene Projekte zu beschränken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3276360" y="4292280"/>
            <a:ext cx="1150920" cy="36036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71640" y="112536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he in der Projektdatenbank</a:t>
            </a: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7956360" cy="47372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012000" y="3068640"/>
            <a:ext cx="723600" cy="289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6587640" y="3357720"/>
            <a:ext cx="505080" cy="79200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71640" y="112536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he in der Projektdatenbank</a:t>
            </a: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580000" y="4149720"/>
            <a:ext cx="331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Die Register öffnen eine Übersicht aller in der Datenbank vorhandenen Schlagworte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7956360" cy="47372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627280" y="2781360"/>
            <a:ext cx="1008000" cy="12952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00720" y="2349360"/>
            <a:ext cx="2702160" cy="33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Freitext, 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sucht in allen vorhandenen Felder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Schlagworte, 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sucht in Schlagworten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Projekttitel,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sucht nach Projekttiteln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Institutionen, 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sucht nach Institutionen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Laufend im Jahr, 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Jahren in denen ein Projekt lief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Personen, 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sucht nach beteiligten Personen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71640" y="112536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he in der Projektdatenbank</a:t>
            </a: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iel Spaß bei der Recherc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079640" y="3598560"/>
            <a:ext cx="759600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a4a4a"/>
                </a:solidFill>
                <a:latin typeface="Arial"/>
              </a:rPr>
              <a:t>Für Fragen wenden Sie sich bitte an ism@dipf.de</a:t>
            </a: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6832440" cy="428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9" name=""/>
          <p:cNvSpPr/>
          <p:nvPr/>
        </p:nvSpPr>
        <p:spPr>
          <a:xfrm>
            <a:off x="539640" y="1341360"/>
            <a:ext cx="807732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ssystem Medienpädagogik</a:t>
            </a:r>
            <a:endParaRPr b="0" lang="en-US" sz="32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90" name="">
            <a:hlinkClick r:id="rId2"/>
          </p:cNvPr>
          <p:cNvSpPr/>
          <p:nvPr/>
        </p:nvSpPr>
        <p:spPr>
          <a:xfrm>
            <a:off x="5867280" y="5953320"/>
            <a:ext cx="2913120" cy="296280"/>
          </a:xfrm>
          <a:prstGeom prst="rect">
            <a:avLst/>
          </a:prstGeom>
          <a:solidFill>
            <a:srgbClr val="008000">
              <a:alpha val="7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  <a:hlinkClick r:id="rId3"/>
              </a:rPr>
              <a:t>www.ism-info.de</a:t>
            </a:r>
            <a:endParaRPr b="0" lang="en-US" sz="1400" spc="-1" strike="noStrike">
              <a:solidFill>
                <a:srgbClr val="4a4a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4360" y="2492280"/>
            <a:ext cx="8076960" cy="34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aturnachweise zu medienpädagogischen Themenfeldern 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tasuch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ugang zu den Datenbanken des ISM und seiner Partner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e Suche nach Medien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e Suche nach Projekten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en über Veranstaltungen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entipps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ktuelles von den beteiligten Institutionen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1295280"/>
            <a:ext cx="685800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 Informationssystem Medienpädagogik bietet Ihnen</a:t>
            </a:r>
            <a:endParaRPr b="0" lang="en-US" sz="2800" spc="-1" strike="noStrike">
              <a:solidFill>
                <a:srgbClr val="4a4a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55640" y="1989000"/>
            <a:ext cx="8077320" cy="41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etasuche</a:t>
            </a: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nbankübergreifende, parallele Recherche 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nbanken können individuell ausgewählt und kombiniert werden 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knüpfung von mehreren Suchoptionen 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207280" cy="4930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195640" y="2708280"/>
            <a:ext cx="1079280" cy="1008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67280" y="3716280"/>
            <a:ext cx="194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Felder zur Auswahl relevanter Bereiche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3132000" y="3573000"/>
            <a:ext cx="2735280" cy="576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32000" y="2565360"/>
            <a:ext cx="2592360" cy="122400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59640" y="2276640"/>
            <a:ext cx="194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Felder für die Eingabe von Suchbegriffen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5796000" y="2781360"/>
            <a:ext cx="936720" cy="2160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3645000"/>
            <a:ext cx="1079640" cy="86652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92720" y="4292640"/>
            <a:ext cx="259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Auswahlfelder für die Datenbanken, die in die Suche einbezogen werden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3492000" y="4149720"/>
            <a:ext cx="1800360" cy="50328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71640" y="112536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suche</a:t>
            </a: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8353440" cy="50166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268360" y="2708280"/>
            <a:ext cx="648000" cy="216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67280" y="2060640"/>
            <a:ext cx="309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diesen Feldern kann die Auswahl getroffen werden in welchen Bereichen der Datenbanken gesucht werden soll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27640" y="3500280"/>
            <a:ext cx="453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Bei Titel / Name wird nach dem Titel eines Werks oder dem Namen eines Autoren gesucht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2924280"/>
            <a:ext cx="435240" cy="21744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27640" y="4149720"/>
            <a:ext cx="453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Bei Freitext wird nach dem eingegebenen Wort in allen Feldern gesucht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68360" y="3141720"/>
            <a:ext cx="721080" cy="21600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27640" y="4797360"/>
            <a:ext cx="453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Bei Schlagwörter / Ort wird nach Schlagwörtern und/oder Orten gesucht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2916000" y="2924280"/>
            <a:ext cx="1584360" cy="792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2771280" y="3068280"/>
            <a:ext cx="1729080" cy="115236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2843280" y="3357720"/>
            <a:ext cx="1657440" cy="158400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79640" y="2349360"/>
            <a:ext cx="1368360" cy="1366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276720" y="2349360"/>
            <a:ext cx="2590560" cy="28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71640" y="112536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suche</a:t>
            </a: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55640" y="1989000"/>
            <a:ext cx="8077320" cy="41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che in der Mediendatenbank</a:t>
            </a: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zielte Recherche nach Medien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zielte Recherche nach beteiligten Personen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mbinierte Suche nach mehreren Medien 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knüpfung von mehreren Suchoptionen 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herche nach englisch oder deutschen Dokumenten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zielte Recherche nach online verfügbaren Dokumenten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lagwort und Personen Register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7988400" cy="4749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763640" y="3933720"/>
            <a:ext cx="3816360" cy="9352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46920" y="3933720"/>
            <a:ext cx="309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In diesen Feldern können Sie Ihre Suchanfrage genauer spezifizieren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5579640" y="4508640"/>
            <a:ext cx="576360" cy="727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71640" y="112536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he in der Mediendatenbank</a:t>
            </a: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7988400" cy="47498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012000" y="2997360"/>
            <a:ext cx="720720" cy="64764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580000" y="4005360"/>
            <a:ext cx="3313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Die Register öffnen jeweils eine Übersicht aller in der Datenbank vorhandenen Schlagworte oder Personen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6659280" y="3573000"/>
            <a:ext cx="360360" cy="36036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112536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he in der Mediendatenbank</a:t>
            </a: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9T08:23:44Z</dcterms:created>
  <dc:creator>Gerda Balazs</dc:creator>
  <dc:description/>
  <dc:language>en-US</dc:language>
  <cp:lastModifiedBy>Siebold, Andres</cp:lastModifiedBy>
  <dcterms:modified xsi:type="dcterms:W3CDTF">2009-01-19T15:52:55Z</dcterms:modified>
  <cp:revision>5</cp:revision>
  <dc:subject/>
  <dc:title>Folie 1</dc:title>
</cp:coreProperties>
</file>